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A9CE6-BB9C-4015-9220-367CBF08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6A0A7-AD3E-4497-A0D0-59D7117F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476C-CF7B-4E77-8A86-EB426804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BA5F5-376C-499F-80B1-36480239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3681-9D9D-4F97-8FCF-5A4D7B4D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068C-C795-4330-83E7-A05DC36E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FA62-9E67-406F-8880-9B77EB9C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A8E9-82B6-4EE1-88A8-03890DB2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C521-C088-4BF5-BB96-2AC2F853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52E4-B057-4541-81CB-70299D03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AC4C-10A2-4C69-823E-E8284388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C2F33-3C37-4F90-8713-1F79F427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D033-86B1-4E41-AD62-E56453E6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184F-A169-4752-91EC-AB60CA90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D429-6BB6-4BDD-92CB-C8BF12DA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2133-D8CD-4EE9-822E-5998FE8F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1265-5760-43E3-BACC-66E2AB92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DA0D-3277-4535-AF1C-B660C66F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B28CA-96B8-4CAC-8823-2E558832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306A-CF8F-42CF-8A48-CEC7729D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32CF9-0655-45AE-8AD0-B940E688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51B8C-CEC3-4921-8D39-DF7ED059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D08F2-7ABE-42D3-A59B-63083E01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F4CA-8463-46DF-9538-C01E2201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9D62-EFC1-4EB9-A3E6-B8309DB4F7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BA26-E729-4F2D-AFDD-BB6A09AA98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mm.edu/presentations/100150_4.htm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oracic Case #1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sey Darrah, Nate Franley,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ulie Johnson and Paul Roger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at could it be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thor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ylothor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neumothor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il ch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599080" y="1981080"/>
            <a:ext cx="2746440" cy="198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"/>
          <p:cNvGraphicFramePr/>
          <p:nvPr/>
        </p:nvGraphicFramePr>
        <p:xfrm>
          <a:off x="5970600" y="4114800"/>
          <a:ext cx="20034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70600" y="4114800"/>
                    <a:ext cx="20034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3"/>
          <p:cNvGraphicFramePr/>
          <p:nvPr/>
        </p:nvGraphicFramePr>
        <p:xfrm>
          <a:off x="3657600" y="4114800"/>
          <a:ext cx="2057400" cy="198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4114800"/>
                    <a:ext cx="205740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ed pneumothorax of right l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ossibly due to the lung tissue blebbing and ruptur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s allows air into the pleural spa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at causes a pneumothorax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oking is a common cau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bs appear on the  lungs, and rupture the visceral ple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possible in non-smoking patients, but un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at is normal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452680" y="1330200"/>
          <a:ext cx="474336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2680" y="1330200"/>
                    <a:ext cx="474336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at’s a pneumothorax look like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30760" cy="4114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3810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ones don’t require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needle into lateral 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CS to drain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st tube may be required in severe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t. needs to quit smoking, as this may have been a cause of his pneumothor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ow to treat this patient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Chest Tube Insertion Technique"/>
          <p:cNvPicPr/>
          <p:nvPr/>
        </p:nvPicPr>
        <p:blipFill>
          <a:blip r:embed="rId1"/>
          <a:stretch/>
        </p:blipFill>
        <p:spPr>
          <a:xfrm>
            <a:off x="2209680" y="1600200"/>
            <a:ext cx="47628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ita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ufman, D.,  “Pneumothorax” last modified 8/10/05 </a:t>
            </a:r>
            <a:r>
              <a:rPr b="0" lang="en-US" sz="18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umm.edu/presentations/100150_4.ht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ccessed 12/8/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ore, K.L., &amp; Dalley, A.F.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Clinically Oriented Anatom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5th ed. Philadelphia: Lippincott, 200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nik, A. M. (2001). Management of Pneumothorax and Barotrauma: Current Concepts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mprehensive Thera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), 311-32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, S. S., &amp;  Lam, K. (2005). Simple aspiration as initial treatment for primary spontaneous pneumothorax: Results of 91 consecutive cases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ournal of Emergency Medic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), 133-138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Questions, part I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the embryologic origin of the visceral pleura and parietal pleur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Visceral- splanchnic mesoder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rietal- somatic mesoder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the innervation of the parietal pleur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ntercostal nerv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the innervation of the visceral pleur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utonomi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o, what brings you in today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t. is a Caucasian male, age 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C- pain in right chest, difficulty breathing, shortness of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, 1 pack/day for three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drug use, no travel outside U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began when pt. was working on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ital sig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P 120/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lse 105bpm, regular (but is it normal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8.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R 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/W 6’4”, 145#, BMI of 17.6 (underweigh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ENT exam is normal, except for a purple cast to the oral muc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xamination of the Lung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percussion, palpation and auscultation, EXCEP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plinting the chest wall to right on inhal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rger intercostal spaces on righ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Vesicular breath sounds in ICS 2-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ercussion tympani on righ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creased intensity of voi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ardiovascular examin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, except fo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achycardi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urple cast to oral mucosa, fingers and to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ther systems are found to be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kay, so what do all these strange things mean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i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olding the chest to protect against pain of inspir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sicular breath s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ormal breath sound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howing up as weak- Why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tinuing the terminolog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ned intercostal sp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Just as it sounds- the ICS are wider on the affected sid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ussion tymp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ung sounds hollow on percussion due to accumulation of ai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yanosis, tachycardia, tachypne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s for cyano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oor oxygenation of the bloo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&gt; 5g reduced hemoglobin / 100 m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s for tachycard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rying to maximize circulation of poorly oxygenated bloo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in response (sympathetic AN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s for tachypne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ttempt for left lung to compensa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ttempt to maximize right lung func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12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ypes of pleural disorders are the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lood- hemothorax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ymph- chylothorax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leuritis- inflammation of pleur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19:38:06Z</dcterms:created>
  <dc:creator>Casey</dc:creator>
  <dc:description/>
  <dc:language>en-US</dc:language>
  <cp:lastModifiedBy>Casey</cp:lastModifiedBy>
  <dcterms:modified xsi:type="dcterms:W3CDTF">2007-12-08T22:05:51Z</dcterms:modified>
  <cp:revision>8</cp:revision>
  <dc:subject/>
  <dc:title>Thoracic Case #1</dc:title>
</cp:coreProperties>
</file>